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21.wmf" ContentType="image/x-wmf"/>
  <Override PartName="/ppt/media/image18.png" ContentType="image/png"/>
  <Override PartName="/ppt/media/image19.wmf" ContentType="image/x-wmf"/>
  <Override PartName="/ppt/media/image17.jpeg" ContentType="image/jpeg"/>
  <Override PartName="/ppt/media/image1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42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2.jpeg" ContentType="image/jpeg"/>
  <Override PartName="/ppt/media/image36.jpeg" ContentType="image/jpeg"/>
  <Override PartName="/ppt/media/image39.jpeg" ContentType="image/jpeg"/>
  <Override PartName="/ppt/media/image8.png" ContentType="image/png"/>
  <Override PartName="/ppt/media/image45.jpeg" ContentType="image/jpeg"/>
  <Override PartName="/ppt/media/image16.wmf" ContentType="image/x-wmf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B5EE-0AD9-456C-B764-B1185B1D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940D-6F78-4868-9967-12D3BF50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760-8193-42C5-A257-D6631419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EEA-496C-43CF-94C7-4EA57CC0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9D2-6D36-486D-A837-7B265428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3CE-DE0A-4932-8939-4E6D320E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F97-C6E7-4151-889E-4CA9A910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BFBF-D974-46E0-AB52-A66F223D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A56-9A41-447C-A3C0-7ACA678C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328-5F9F-4A4F-A047-0C7371ED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4C45-BDDF-45D3-B7CD-98B5CD15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1EA-EFAC-48DB-A9A7-8AA86CA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C511-DA33-406A-8872-FB6C8F619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jpeg"/><Relationship Id="rId1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ension of plasma torch operation with reactive gases for wall cleaning purp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35053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.R. Ionita, C. Stancu, T. Acsente,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. Teodoresc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G. Dines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Institute for Laser, Plasma and Radiation Physics, Atomistilor 409, PO-Box MG-16, 077125, Magurele, Bucharest, Romani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35268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60948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6248520" y="1371600"/>
            <a:ext cx="266688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lu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more robu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more compact and flexible, easier to be integrated on a robotic ar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increased cool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reliable RF conne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more resistant on coros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72160" y="720720"/>
            <a:ext cx="5442840" cy="5789160"/>
            <a:chOff x="272160" y="720720"/>
            <a:chExt cx="5442840" cy="5789160"/>
          </a:xfrm>
        </p:grpSpPr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>
              <a:off x="533520" y="2286000"/>
              <a:ext cx="5181480" cy="14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9" descr=""/>
            <p:cNvPicPr/>
            <p:nvPr/>
          </p:nvPicPr>
          <p:blipFill>
            <a:blip r:embed="rId3"/>
            <a:stretch/>
          </p:blipFill>
          <p:spPr>
            <a:xfrm>
              <a:off x="533520" y="720720"/>
              <a:ext cx="5181480" cy="1428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5" name="Straight Arrow Connector 17"/>
            <p:cNvCxnSpPr/>
            <p:nvPr/>
          </p:nvCxnSpPr>
          <p:spPr>
            <a:xfrm flipV="1">
              <a:off x="913320" y="2971080"/>
              <a:ext cx="229320" cy="15246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26" name="Straight Arrow Connector 20"/>
            <p:cNvCxnSpPr/>
            <p:nvPr/>
          </p:nvCxnSpPr>
          <p:spPr>
            <a:xfrm flipV="1">
              <a:off x="2133720" y="3047400"/>
              <a:ext cx="838800" cy="16009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27" name="Straight Arrow Connector 26"/>
            <p:cNvCxnSpPr/>
            <p:nvPr/>
          </p:nvCxnSpPr>
          <p:spPr>
            <a:xfrm flipV="1">
              <a:off x="3047040" y="2742840"/>
              <a:ext cx="1143720" cy="22867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28" name="Straight Arrow Connector 30"/>
            <p:cNvCxnSpPr/>
            <p:nvPr/>
          </p:nvCxnSpPr>
          <p:spPr>
            <a:xfrm flipV="1">
              <a:off x="5256360" y="3049200"/>
              <a:ext cx="3600" cy="274392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29" name="TextBox 31"/>
            <p:cNvSpPr/>
            <p:nvPr/>
          </p:nvSpPr>
          <p:spPr>
            <a:xfrm>
              <a:off x="272160" y="4343400"/>
              <a:ext cx="13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uter ja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33"/>
            <p:cNvSpPr/>
            <p:nvPr/>
          </p:nvSpPr>
          <p:spPr>
            <a:xfrm>
              <a:off x="1054800" y="4648320"/>
              <a:ext cx="184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ternal Electr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40"/>
            <p:cNvSpPr/>
            <p:nvPr/>
          </p:nvSpPr>
          <p:spPr>
            <a:xfrm>
              <a:off x="2160360" y="4952880"/>
              <a:ext cx="199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as admission tu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45"/>
            <p:cNvSpPr/>
            <p:nvPr/>
          </p:nvSpPr>
          <p:spPr>
            <a:xfrm>
              <a:off x="3723840" y="5334120"/>
              <a:ext cx="144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oling tub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" name="Straight Arrow Connector 47"/>
            <p:cNvCxnSpPr/>
            <p:nvPr/>
          </p:nvCxnSpPr>
          <p:spPr>
            <a:xfrm flipV="1">
              <a:off x="4267080" y="3657240"/>
              <a:ext cx="610560" cy="17532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34" name="TextBox 49"/>
            <p:cNvSpPr/>
            <p:nvPr/>
          </p:nvSpPr>
          <p:spPr>
            <a:xfrm>
              <a:off x="3521520" y="5867280"/>
              <a:ext cx="214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ss-through RF 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&amp; ground conn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79820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operation in reactive g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835440"/>
            <a:ext cx="297180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rgon: 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Nitrogen: 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xygen: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3759120"/>
            <a:ext cx="29718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rgon/Ammonia: Ar/NH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rgon/Hydrogen: Ar/H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rgon/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8520" y="297180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used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133720"/>
            <a:ext cx="297180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jet visible (expansion outside the interelectrodic sp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operation without spots and arc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xcessive heating (returning cooling water still cold, no visible reddish  on nozz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3124080"/>
            <a:ext cx="4114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 domains: power and   flow rate measu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 appearance: imaging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: torch operation in reactive g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77148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99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the possible values for the power (P), gas flow rate valu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 and gas flow rate ratios for stable and reliable op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3733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-304920" y="1003320"/>
          <a:ext cx="7129440" cy="502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04920" y="1003320"/>
                    <a:ext cx="712944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30360" y="870120"/>
          <a:ext cx="6180120" cy="466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0360" y="870120"/>
                    <a:ext cx="618012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28560" y="990720"/>
          <a:ext cx="6172200" cy="4554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8560" y="990720"/>
                    <a:ext cx="617220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 domains in pure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685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1600200"/>
            <a:ext cx="236232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in nitrogen and air require more pow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in air: domain in air restricted to a smaller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operation points in the middle of the operating domains (Ar: 5000-6000sccm, 150-200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332000" y="1219320"/>
          <a:ext cx="5424480" cy="433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219320"/>
                    <a:ext cx="542448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676440" y="1209600"/>
          <a:ext cx="6724440" cy="4616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440" y="1209600"/>
                    <a:ext cx="6724440" cy="46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33440" y="1209600"/>
          <a:ext cx="5991120" cy="4362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3440" y="1209600"/>
                    <a:ext cx="599112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457200" y="1224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 domains in gas mi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1487520"/>
            <a:ext cx="2286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in Ar/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ires more pow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in ammonia is the easies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points should be chosen in the middle of the operating domains (Ar: 5000 sccm, admixed gas 500-1500 sccm, powers 200-300 W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59464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1224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 domains in pure gases: im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800600" y="930240"/>
            <a:ext cx="3504960" cy="2727720"/>
            <a:chOff x="4800600" y="930240"/>
            <a:chExt cx="3504960" cy="2727720"/>
          </a:xfrm>
        </p:grpSpPr>
        <p:pic>
          <p:nvPicPr>
            <p:cNvPr id="168" name="" descr=""/>
            <p:cNvPicPr/>
            <p:nvPr/>
          </p:nvPicPr>
          <p:blipFill>
            <a:blip r:embed="rId2"/>
            <a:srcRect l="19357" t="14163" r="30325" b="4425"/>
            <a:stretch/>
          </p:blipFill>
          <p:spPr>
            <a:xfrm>
              <a:off x="7081200" y="1307160"/>
              <a:ext cx="1168560" cy="21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3"/>
            <a:srcRect l="23941" t="12962" r="28182" b="1853"/>
            <a:stretch/>
          </p:blipFill>
          <p:spPr>
            <a:xfrm>
              <a:off x="4834440" y="1307160"/>
              <a:ext cx="1078200" cy="210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rcRect l="20374" t="12675" r="30733" b="940"/>
            <a:stretch/>
          </p:blipFill>
          <p:spPr>
            <a:xfrm>
              <a:off x="5958000" y="1307160"/>
              <a:ext cx="1078200" cy="21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937040" y="930240"/>
              <a:ext cx="305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, 140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0600" y="3411720"/>
              <a:ext cx="350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00sccm Ar     6000sccm Ar     8000sccm 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762120" y="974880"/>
            <a:ext cx="3428640" cy="2705040"/>
            <a:chOff x="762120" y="974880"/>
            <a:chExt cx="3428640" cy="2705040"/>
          </a:xfrm>
        </p:grpSpPr>
        <p:grpSp>
          <p:nvGrpSpPr>
            <p:cNvPr id="174" name=""/>
            <p:cNvGrpSpPr/>
            <p:nvPr/>
          </p:nvGrpSpPr>
          <p:grpSpPr>
            <a:xfrm>
              <a:off x="762120" y="1335600"/>
              <a:ext cx="3340440" cy="2076840"/>
              <a:chOff x="762120" y="1335600"/>
              <a:chExt cx="3340440" cy="2076840"/>
            </a:xfrm>
          </p:grpSpPr>
          <p:pic>
            <p:nvPicPr>
              <p:cNvPr id="175" name="" descr=""/>
              <p:cNvPicPr/>
              <p:nvPr/>
            </p:nvPicPr>
            <p:blipFill>
              <a:blip r:embed="rId5"/>
              <a:srcRect l="17747" t="10236" r="24585" b="11301"/>
              <a:stretch/>
            </p:blipFill>
            <p:spPr>
              <a:xfrm>
                <a:off x="762120" y="1335600"/>
                <a:ext cx="1143000" cy="207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6"/>
              <a:srcRect l="20761" t="11246" r="29414" b="14859"/>
              <a:stretch/>
            </p:blipFill>
            <p:spPr>
              <a:xfrm>
                <a:off x="1949040" y="1335600"/>
                <a:ext cx="1054800" cy="2076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7"/>
              <a:srcRect l="20313" t="10744" r="23440" b="13224"/>
              <a:stretch/>
            </p:blipFill>
            <p:spPr>
              <a:xfrm>
                <a:off x="3047760" y="1335600"/>
                <a:ext cx="1054800" cy="207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"/>
            <p:cNvSpPr/>
            <p:nvPr/>
          </p:nvSpPr>
          <p:spPr>
            <a:xfrm>
              <a:off x="936000" y="974880"/>
              <a:ext cx="299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300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412800"/>
              <a:ext cx="34286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00sccm N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6000sccm N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8000sccm N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800280" y="3809880"/>
            <a:ext cx="3428640" cy="2648880"/>
            <a:chOff x="800280" y="3809880"/>
            <a:chExt cx="3428640" cy="2648880"/>
          </a:xfrm>
        </p:grpSpPr>
        <p:pic>
          <p:nvPicPr>
            <p:cNvPr id="181" name="" descr=""/>
            <p:cNvPicPr/>
            <p:nvPr/>
          </p:nvPicPr>
          <p:blipFill>
            <a:blip r:embed="rId8"/>
            <a:stretch/>
          </p:blipFill>
          <p:spPr>
            <a:xfrm>
              <a:off x="800280" y="4146120"/>
              <a:ext cx="10238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9"/>
            <a:stretch/>
          </p:blipFill>
          <p:spPr>
            <a:xfrm>
              <a:off x="1854360" y="4146120"/>
              <a:ext cx="109224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0"/>
            <a:stretch/>
          </p:blipFill>
          <p:spPr>
            <a:xfrm>
              <a:off x="2985120" y="4146120"/>
              <a:ext cx="111312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60760" y="6212520"/>
              <a:ext cx="336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sccm          3000sccm          4000sc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92520" y="3809880"/>
              <a:ext cx="95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350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876920" y="3786120"/>
            <a:ext cx="3428640" cy="2672280"/>
            <a:chOff x="4876920" y="3786120"/>
            <a:chExt cx="3428640" cy="2672280"/>
          </a:xfrm>
        </p:grpSpPr>
        <p:pic>
          <p:nvPicPr>
            <p:cNvPr id="187" name="" descr=""/>
            <p:cNvPicPr/>
            <p:nvPr/>
          </p:nvPicPr>
          <p:blipFill>
            <a:blip r:embed="rId11"/>
            <a:stretch/>
          </p:blipFill>
          <p:spPr>
            <a:xfrm>
              <a:off x="7217280" y="4136400"/>
              <a:ext cx="1063440" cy="20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2"/>
            <a:stretch/>
          </p:blipFill>
          <p:spPr>
            <a:xfrm>
              <a:off x="6079680" y="4136400"/>
              <a:ext cx="1110960" cy="201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3"/>
            <a:stretch/>
          </p:blipFill>
          <p:spPr>
            <a:xfrm>
              <a:off x="4876920" y="4136400"/>
              <a:ext cx="1178280" cy="20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966920" y="6212160"/>
              <a:ext cx="3338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00sccm         3000sccm         4000scc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17120" y="3786120"/>
              <a:ext cx="91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r 300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962600" y="3489480"/>
            <a:ext cx="31906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sccm 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300sccm 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500sccm H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176960" y="1436760"/>
            <a:ext cx="976320" cy="1935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097680" y="1438200"/>
            <a:ext cx="1063440" cy="19382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5019840" y="1438200"/>
            <a:ext cx="1064880" cy="1936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254200" y="1066680"/>
            <a:ext cx="2699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0W 5000sccm Ar,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62120" y="1066680"/>
            <a:ext cx="3276360" cy="2616840"/>
            <a:chOff x="762120" y="1066680"/>
            <a:chExt cx="3276360" cy="2616840"/>
          </a:xfrm>
        </p:grpSpPr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>
              <a:off x="852120" y="1414080"/>
              <a:ext cx="1037880" cy="20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6"/>
            <a:stretch/>
          </p:blipFill>
          <p:spPr>
            <a:xfrm>
              <a:off x="2919240" y="1414080"/>
              <a:ext cx="1039320" cy="201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7"/>
            <a:stretch/>
          </p:blipFill>
          <p:spPr>
            <a:xfrm>
              <a:off x="1911240" y="1414080"/>
              <a:ext cx="990000" cy="20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62120" y="3416400"/>
              <a:ext cx="3276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0sccm NH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200sccm NH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500sccm NH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040" y="1066680"/>
              <a:ext cx="2895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0W: 5000sccm Ar, NH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vari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57200" y="1224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 domains in gas mixtures: ima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840040" y="4289400"/>
            <a:ext cx="3408120" cy="1999800"/>
            <a:chOff x="2840040" y="4289400"/>
            <a:chExt cx="3408120" cy="1999800"/>
          </a:xfrm>
        </p:grpSpPr>
        <p:pic>
          <p:nvPicPr>
            <p:cNvPr id="206" name="" descr=""/>
            <p:cNvPicPr/>
            <p:nvPr/>
          </p:nvPicPr>
          <p:blipFill>
            <a:blip r:embed="rId8"/>
            <a:stretch/>
          </p:blipFill>
          <p:spPr>
            <a:xfrm>
              <a:off x="5152320" y="4289400"/>
              <a:ext cx="1095840" cy="19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9"/>
            <a:stretch/>
          </p:blipFill>
          <p:spPr>
            <a:xfrm>
              <a:off x="4038120" y="4289400"/>
              <a:ext cx="1086480" cy="19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0"/>
            <a:stretch/>
          </p:blipFill>
          <p:spPr>
            <a:xfrm>
              <a:off x="2840040" y="4289400"/>
              <a:ext cx="1170720" cy="19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3119400" y="3886200"/>
            <a:ext cx="281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0W, 5000sccm  Ar, 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6289560"/>
            <a:ext cx="33098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sccm     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00sccm     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300sc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522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esults on cleaning with reactive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990720"/>
            <a:ext cx="861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62120" y="1066680"/>
            <a:ext cx="7924680" cy="4728960"/>
            <a:chOff x="762120" y="1066680"/>
            <a:chExt cx="7924680" cy="4728960"/>
          </a:xfrm>
        </p:grpSpPr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762120" y="1546200"/>
              <a:ext cx="7543800" cy="15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flipV="1">
              <a:off x="7400880" y="3232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681960" y="3231720"/>
              <a:ext cx="0" cy="17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5757840" y="3232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600360" y="32320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1680" y="4371840"/>
              <a:ext cx="19051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0W 5000sccm Ar+20sccm 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686480" y="3231720"/>
              <a:ext cx="0" cy="17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743200" y="3227040"/>
              <a:ext cx="0" cy="170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43600" y="5181480"/>
              <a:ext cx="20574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0W 5000sccm Ar+200sccm 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4419720"/>
              <a:ext cx="18288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0W 5000sccm Ar+500sccm NH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62520" y="5133960"/>
              <a:ext cx="14475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50W 5000sccm N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95480" y="4343400"/>
              <a:ext cx="152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0W 4000sccm Ai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23880" y="5013360"/>
              <a:ext cx="17812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00W 3000sccm 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81080" y="1066680"/>
              <a:ext cx="586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fter 1 scan, speed 5 mm/sec, distance to nozzle 5 m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447920" y="6019920"/>
            <a:ext cx="594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ness: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&gt;Ar/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Air~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Ar/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Ar/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ntered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83808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1447920"/>
            <a:ext cx="693396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ure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large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ent (over 10%) and ai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ng time operation not pro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nozzle does not resist for long time in oxygen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changed in Mo or W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insulator (quartz) is eroded fast – other material 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52578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solution: Reactive gas injection in the nozzle or even in post-dis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4191120"/>
            <a:ext cx="457200" cy="685800"/>
          </a:xfrm>
          <a:prstGeom prst="downArrow">
            <a:avLst>
              <a:gd name="adj1" fmla="val 50000"/>
              <a:gd name="adj2" fmla="val 37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15228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and further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990720"/>
            <a:ext cx="861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3886200"/>
            <a:ext cx="678168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xperiments of cleaning with plasma torch  working in nitrogen/argon/reactive gases (July-December 20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eaning of carbon  layers from laboratory coated flat and castellated surface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leaning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xed layers from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aborato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okamak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exposed surf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1474920"/>
            <a:ext cx="78487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torch works  well in Ar,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/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/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till problems with oxygen containing gases, at large admixed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best cleaning results are in oxygen, Ar/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ir,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05320" y="3352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P10-PWI-02-04-01/MEdC/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Investigation of device operation with reactive g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January-June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ing of new constructive elements of the plasma torch, suitable to work in reactive gases; improvement of flexibi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udy of the influence of reactive gases (nitrogen, air, others) o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 domain,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fetime and st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periments of cleaning with plasma torch  working in nitrogen/argon/reactive gases (July-December 201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of carbon  layers laboratory coated flat and castellated surfac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leaning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xed layers from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aborato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Tokamak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xposed surf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990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54520" y="297180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 for your tim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920" y="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ing with plasma to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76212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581280" cy="2743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4876920"/>
            <a:ext cx="3886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stainless steel body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hand held, flexibility for mounting on robotic arm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couplings realized to the back end:  RF power, gas feeding, active water cooling (2 circuits, inside the RF electrode and external jack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95680" y="12193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958040" y="3429000"/>
            <a:ext cx="2018520" cy="1371600"/>
            <a:chOff x="1958040" y="3429000"/>
            <a:chExt cx="2018520" cy="1371600"/>
          </a:xfrm>
        </p:grpSpPr>
        <p:grpSp>
          <p:nvGrpSpPr>
            <p:cNvPr id="53" name=""/>
            <p:cNvGrpSpPr/>
            <p:nvPr/>
          </p:nvGrpSpPr>
          <p:grpSpPr>
            <a:xfrm>
              <a:off x="1958040" y="3429000"/>
              <a:ext cx="2018520" cy="1371600"/>
              <a:chOff x="1958040" y="3429000"/>
              <a:chExt cx="2018520" cy="13716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24440" y="3429000"/>
                <a:ext cx="1752120" cy="1371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" name=""/>
              <p:cNvGrpSpPr/>
              <p:nvPr/>
            </p:nvGrpSpPr>
            <p:grpSpPr>
              <a:xfrm>
                <a:off x="1958040" y="3469320"/>
                <a:ext cx="1067040" cy="1298160"/>
                <a:chOff x="1958040" y="3469320"/>
                <a:chExt cx="1067040" cy="1298160"/>
              </a:xfrm>
            </p:grpSpPr>
            <p:pic>
              <p:nvPicPr>
                <p:cNvPr id="56" name="" descr=""/>
                <p:cNvPicPr/>
                <p:nvPr/>
              </p:nvPicPr>
              <p:blipFill>
                <a:blip r:embed="rId4"/>
                <a:stretch/>
              </p:blipFill>
              <p:spPr>
                <a:xfrm rot="20961000">
                  <a:off x="2057400" y="3539520"/>
                  <a:ext cx="867960" cy="115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" name=""/>
                <p:cNvSpPr/>
                <p:nvPr/>
              </p:nvSpPr>
              <p:spPr>
                <a:xfrm>
                  <a:off x="2093400" y="4049640"/>
                  <a:ext cx="31392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" name=""/>
            <p:cNvSpPr/>
            <p:nvPr/>
          </p:nvSpPr>
          <p:spPr>
            <a:xfrm>
              <a:off x="3397320" y="3900600"/>
              <a:ext cx="4111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221480" y="83808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to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11880" y="83808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gap clea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24600" y="4648320"/>
            <a:ext cx="3333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moval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trogen flow = 8200 sc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F power = 350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ance from top face of the built castellation = 2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speed = 5mm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p width = 0.5 – 1.5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5029200" y="14479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90720" y="876240"/>
            <a:ext cx="7162560" cy="5372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747520" y="228600"/>
            <a:ext cx="35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ide gap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TORCH REMOVAL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-C: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YERS (F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87692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yer thickness: 1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scans: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: 350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trogen, mass flow rate: 7500 sc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3578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thickness: 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90920" y="40381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48120" y="411444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" y="10224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9880" y="6095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581280" y="4041720"/>
            <a:ext cx="5105520" cy="2739960"/>
            <a:chOff x="3581280" y="4041720"/>
            <a:chExt cx="5105520" cy="2739960"/>
          </a:xfrm>
        </p:grpSpPr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5029200" y="4041720"/>
              <a:ext cx="3657600" cy="273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5" name=""/>
            <p:cNvGrpSpPr/>
            <p:nvPr/>
          </p:nvGrpSpPr>
          <p:grpSpPr>
            <a:xfrm>
              <a:off x="3581280" y="5029200"/>
              <a:ext cx="1447920" cy="1480320"/>
              <a:chOff x="3581280" y="5029200"/>
              <a:chExt cx="1447920" cy="1480320"/>
            </a:xfrm>
          </p:grpSpPr>
          <p:sp>
            <p:nvSpPr>
              <p:cNvPr id="76" name=""/>
              <p:cNvSpPr/>
              <p:nvPr/>
            </p:nvSpPr>
            <p:spPr>
              <a:xfrm>
                <a:off x="3581280" y="5029200"/>
                <a:ext cx="144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.66 mm/se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581280" y="5562720"/>
                <a:ext cx="137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.66 mm/se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581280" y="6172200"/>
                <a:ext cx="1295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5 mm/se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4952880" y="525780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52880" y="5791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952880" y="6019920"/>
              <a:ext cx="1219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029200" y="11430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2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torch-gap relative position on cl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33520" y="1447920"/>
            <a:ext cx="8381880" cy="4647600"/>
            <a:chOff x="533520" y="1447920"/>
            <a:chExt cx="8381880" cy="4647600"/>
          </a:xfrm>
        </p:grpSpPr>
        <p:grpSp>
          <p:nvGrpSpPr>
            <p:cNvPr id="86" name=""/>
            <p:cNvGrpSpPr/>
            <p:nvPr/>
          </p:nvGrpSpPr>
          <p:grpSpPr>
            <a:xfrm>
              <a:off x="2971800" y="1447920"/>
              <a:ext cx="5714640" cy="1704600"/>
              <a:chOff x="2971800" y="1447920"/>
              <a:chExt cx="5714640" cy="1704600"/>
            </a:xfrm>
          </p:grpSpPr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797160" y="1447920"/>
                <a:ext cx="1889280" cy="170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971800" y="1447920"/>
                <a:ext cx="1889280" cy="170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85200" y="1447920"/>
                <a:ext cx="1889280" cy="1704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" name=""/>
            <p:cNvSpPr/>
            <p:nvPr/>
          </p:nvSpPr>
          <p:spPr>
            <a:xfrm>
              <a:off x="3200400" y="3124080"/>
              <a:ext cx="5565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1 scan                      46 scans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      101 scans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520" y="228600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rch on the middle of g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520" y="449568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rch on the side of the ga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881440" y="3733560"/>
              <a:ext cx="5881680" cy="1855440"/>
              <a:chOff x="2881440" y="3733560"/>
              <a:chExt cx="5881680" cy="1855440"/>
            </a:xfrm>
          </p:grpSpPr>
          <p:pic>
            <p:nvPicPr>
              <p:cNvPr id="9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81440" y="3733560"/>
                <a:ext cx="1941120" cy="185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" descr=""/>
              <p:cNvPicPr/>
              <p:nvPr/>
            </p:nvPicPr>
            <p:blipFill>
              <a:blip r:embed="rId6">
                <a:lum contrast="-18000"/>
              </a:blip>
              <a:stretch/>
            </p:blipFill>
            <p:spPr>
              <a:xfrm>
                <a:off x="4851720" y="3733560"/>
                <a:ext cx="1941120" cy="185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" descr=""/>
              <p:cNvPicPr/>
              <p:nvPr/>
            </p:nvPicPr>
            <p:blipFill>
              <a:blip r:embed="rId7">
                <a:lum contrast="-48000"/>
              </a:blip>
              <a:stretch/>
            </p:blipFill>
            <p:spPr>
              <a:xfrm>
                <a:off x="6822000" y="3733560"/>
                <a:ext cx="1941120" cy="1855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"/>
            <p:cNvSpPr/>
            <p:nvPr/>
          </p:nvSpPr>
          <p:spPr>
            <a:xfrm>
              <a:off x="3352680" y="5638680"/>
              <a:ext cx="5562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Monotype Corsiva"/>
                </a:rPr>
                <a:t>  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1 scan                      20 scans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 50 sca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861048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and integral cleaning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1143000"/>
          <a:ext cx="3886200" cy="30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388620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457200" y="4114800"/>
            <a:ext cx="36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profiles of the thickness of the inside gaps uncleaned layer after 46 et 100 s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1148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ence of the local cleaning rates upon gap dep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270320" y="914400"/>
          <a:ext cx="4376880" cy="333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70320" y="914400"/>
                    <a:ext cx="4376880" cy="33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248920" y="38664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5029200"/>
            <a:ext cx="541044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clus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The removal of a-C:H layers from the inside of gaps  with width of  0.5-1.5 mm was demonstrat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The rates are higher for narrow gap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The rates are higher at the top part (entrance) of the ga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4917960"/>
            <a:ext cx="320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Torch over the gap mid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itrogen flow rate  8200 scc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RF power  350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stance to surface 2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can speed  5mm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Gap width:  0.5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 for working with reactive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7543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ossible higher removal rates can be obtained by using reactive gases, oxygen, air, ammonia, hydrogen or their mixtu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orking with reactive gases may lead  shortage of the device lifetime, limited domains of operatio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533520" y="3581280"/>
            <a:ext cx="8381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taken into consid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des oxidation: i) new materials resistant to oxidation, ii) keep the electrodes col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r range of plasma impedance with various gases: research on matching, firmer connections, high quality cabl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bility of operation: research on operation domains, discharge stability in various g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617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on RF electrode materials and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520" y="137160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ss replaced thoroughly with stainless steel material for RF electro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meter of the active RF electrode increased from 8 mm to 10 m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admission changed from internal part of the RF electrode,  to the outer of the RF electro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nnection of the RF cable, use of RF- 7/16 connector avo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7621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304920" y="37339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on the cooling inside the internal RF electr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ontent Placeholder 2"/>
          <p:cNvSpPr/>
          <p:nvPr/>
        </p:nvSpPr>
        <p:spPr>
          <a:xfrm>
            <a:off x="380880" y="4191120"/>
            <a:ext cx="8534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 Polyethylene Terephthalate (PET) tubes with Fluorinated Ethylene Propylene (FEP) tubes (resistant to temperature, shriveling and plying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the water volume in RF electrode from 2.3 cm³ to 3.4 cm³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water inlet and outlet inner diameter, from 1 mm to 1.8 m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flow rate increased from 0.6 to 1.5 liter/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62320" y="1522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09:21:53Z</dcterms:created>
  <dc:creator>Gheorghe Dinescu</dc:creator>
  <dc:description/>
  <dc:language>en-US</dc:language>
  <cp:lastModifiedBy>Maximilian Teodorescu</cp:lastModifiedBy>
  <dcterms:modified xsi:type="dcterms:W3CDTF">2010-07-02T12:14:30Z</dcterms:modified>
  <cp:revision>81</cp:revision>
  <dc:subject/>
  <dc:title>Slide 1</dc:title>
</cp:coreProperties>
</file>